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wmf" ContentType="image/x-wmf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B86-015E-4584-9ADE-83EDCF62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C69-7800-4B24-805B-D79A379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6D8-02BD-42E5-94A1-9347EFB1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737-FF45-497E-9735-AF1FCE27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C3BB-5A34-4845-B6EF-76264AF5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5014-26DF-4F8E-91F9-86FBB7FD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9378-1AB3-41F8-988C-2F865D5A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F04-62DD-48F6-B101-10879E3B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164-F02E-4A75-8842-0F47FF6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405E-E9AC-40BF-9F4C-9741C73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915B-06B2-4488-9EBA-1D3DE50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D53-34F3-4436-B4B1-615F7B44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FA5F-637C-4238-A801-C37F4A40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575E-791C-42BE-90C3-CF3CF3A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482D-5968-4F89-9554-7483DC1B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2803-BB26-42B7-BAB4-D9678138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C9C-C9E2-42F5-AD12-053E7F60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8B5-66CD-4E17-B58F-6B3DE416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D0B-34CE-472C-B6D2-E96AB16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EF9-56B4-4AEC-BD49-9A470FC3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B82-1427-4692-86D8-EB09315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6D2-B22E-4B0F-A953-655C2DE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8FA-D105-432E-A194-F3B4E67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A4E-4B8D-465C-A086-5DA353F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1EF-65CD-4833-901B-9747E03C9F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C4D-3226-4F5E-BBBE-D158CA0816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3/Herpes_zoster_back.png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ЗАЗВ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РПЕ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ВИРУС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Жељк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но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теж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узрокова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ХВ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-7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4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љи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5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х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ит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4x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ра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ит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ар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зорци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ру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роконверз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7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граниче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д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узрокова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ХВ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-8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крив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ез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плазм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т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ошијев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рко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пошије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рк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haemangiosarco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дул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кул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билиј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695760" cy="4648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3333960" cy="2209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3"/>
          <a:stretch/>
        </p:blipFill>
        <p:spPr>
          <a:xfrm>
            <a:off x="1066680" y="3200400"/>
            <a:ext cx="3353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1760" y="1066320"/>
            <a:ext cx="784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фузиј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мф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елес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шупљ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еур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кардиј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тоне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упљ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Castleman-ova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ликул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нодул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л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изов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иг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рур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ци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лтицент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мртоно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г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ош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рк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руж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ерпес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Б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виру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153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50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шл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ез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дицин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раживањ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ф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род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маћ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р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гребот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ређ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гресив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енциј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тал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еморагиј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ијелити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нцефало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ок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фер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борато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н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узим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о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синтет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уш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лтиформ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мијелинизирају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хан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нкоге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јомио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ошије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уз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670572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нт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ем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и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ERPES SIMPLEX VIR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ф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м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инокисели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н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ис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р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н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пл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4-4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ген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и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шејед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шир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род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живот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о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4.-29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60% (80%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65-15%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екид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ч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ш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температ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еросол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гу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ш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оном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циден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окож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т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цент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оже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матоло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ече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иди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4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нгивостом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о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амациј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цера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о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о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ћ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ном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геми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ERPESVIRUS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к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у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pes simplex tip 1 i 2, Varicella-zoster, Cytomegalovirus, Epstein-Barr virus i humani herpes virusi 6, 7 i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рмо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у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уп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ифуг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б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нак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л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н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за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733920" y="1600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36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из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атогенетском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еханизму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стан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219320"/>
          <a:ext cx="8001000" cy="5175000"/>
        </p:xfrm>
        <a:graphic>
          <a:graphicData uri="http://schemas.openxmlformats.org/drawingml/2006/table">
            <a:tbl>
              <a:tblPr/>
              <a:tblGrid>
                <a:gridCol w="2174760"/>
                <a:gridCol w="2930400"/>
                <a:gridCol w="28958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курент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erpes labial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onatalni herpes mening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roc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erian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УКОКУТА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рофарингеал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Ging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vost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mati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herp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ica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eu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apht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вен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к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з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к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ференц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ептокок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нсент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ven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sonov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295280" y="77616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3047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5410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ича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о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лаб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rpes labialis seu febril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уп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ри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а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око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Građa i sasta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п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н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скоп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Језгро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гласт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оза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6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ом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спољашњ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и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глико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шиљ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орф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е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ет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тег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лађ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а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а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е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гв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зу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е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ж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курент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иј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з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оп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ститу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czema herpe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ур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ц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лић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ш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aronychia herpeti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504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КУЛАР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утоино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Једностра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фоликулар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де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ефа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з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окоњунктив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ндрит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н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о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Рекурент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ридоцикл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нуве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НЕОНАТАЛНИ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б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нат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rpes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c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лтиорга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дбубре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-80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СИМПЛЕ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ЕНЦЕФАЛИТИ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д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тоанатом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онто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к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мен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и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ику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ћелијск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в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ујућ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SV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електронској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икроскопиј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25440" y="2432160"/>
            <a:ext cx="7226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д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ци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ет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инс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узи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а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елект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ј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ар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ле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ул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ронт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жа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т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инктер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епооч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ано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аб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1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5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9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серу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20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.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ЦР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СВДНК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нтиедем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ген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из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глављ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ир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моторн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и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конвулз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тол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росеми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0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Јединице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интезивног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леч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о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ив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екту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СТАЛ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труд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о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утер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ем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гатива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љи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рш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ктивн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мунокомпромитованих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иотерап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пролифератив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м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581280" y="4267080"/>
            <a:ext cx="486000" cy="747720"/>
          </a:xfrm>
          <a:prstGeom prst="downArrow">
            <a:avLst>
              <a:gd name="adj1" fmla="val 50000"/>
              <a:gd name="adj2" fmla="val 3846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о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п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нч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ош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-40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искористљив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алациц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енциц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амциц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ос</a:t>
            </a:r>
            <a:r>
              <a:rPr b="1" lang="sr-Latn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ЦИТОМЕГАЛОВИРУС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пепт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ђ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т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ид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орпорис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козаеда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етр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воланч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не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до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кроглобу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т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рж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нћел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екту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ум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л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бла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iv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креа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о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ч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уклеус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плазмат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клу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мега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им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5859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50-8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укуп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ор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звиј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е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утеви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траутери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љ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е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устр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ск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олесц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расл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зофарин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ну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бу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е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д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маћ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парен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ff00"/>
                </a:solidFill>
                <a:latin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ог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и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еур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Latn-RS" sz="2400" spc="-1" strike="noStrike">
                <a:solidFill>
                  <a:srgbClr val="ff66ff"/>
                </a:solidFill>
                <a:latin typeface="Times New Roman"/>
              </a:rPr>
              <a:t>Guilain-Barr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ејасно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фебрилно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хемолизна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анемија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моограничавај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-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т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форм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нерализов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3733920" y="36576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енатал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иоретинити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цефа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с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рп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љ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во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ојч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ин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Алфахерпесвируси</a:t>
            </a:r>
            <a:r>
              <a:rPr b="1" lang="sr-Latn-CS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лиз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пите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неуро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pes simplex 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cella-zoster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Бет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трофилим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н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megalo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лулар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оно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брил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ес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испон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териј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љив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строинтест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тер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MV chorioreti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и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25430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оуз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честал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нов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мегал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димен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ва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нкта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енхим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оузд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мбрион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др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к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ележ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Л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а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12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сл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лиш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ијатриј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љењ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даниш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школ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ик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овођ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гије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↑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V I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6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Epstein-Barr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вирус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ТИВНА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ОНОНУКЛЕ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кулоендоте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тич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pstein-Bar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ovim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пре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икаци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уклеус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N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(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а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E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мбран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MA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аз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нач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ускапсид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V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Ig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VCA Ig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-9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.-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4.-20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гиоз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ш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здуш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љ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3" descr="2caf9f36d57137476d1290e3b22c7549"/>
          <p:cNvPicPr/>
          <p:nvPr/>
        </p:nvPicPr>
        <p:blipFill>
          <a:blip r:embed="rId9"/>
          <a:stretch/>
        </p:blipFill>
        <p:spPr>
          <a:xfrm>
            <a:off x="6400800" y="2133720"/>
            <a:ext cx="1809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ринге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5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г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ча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јев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пљ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Гам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ихо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stein-Barr-ov v irus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i herpes virusi 6 i 7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отро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пролифера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посед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б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з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рку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ретик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ж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Ц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ж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ав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кона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хиби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ш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оки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ект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иј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р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бађ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истопатолошк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л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фак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066680" y="0"/>
          <a:ext cx="7543800" cy="67816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ктивира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симптоматск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роконверз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Burkitt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Назофаринге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карцин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н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Рекурент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арот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тип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БВ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пролиферативне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болест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X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мозом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еза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имфопролифератив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Интерстициј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неумон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ениталне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лцерациј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Уве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офагиоцит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Оралн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власаст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еукоплак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ч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еудомембран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изрази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к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улар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Ц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гланд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и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хеобронх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зентер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ик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наж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рб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а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aglandov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ун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еудомембраноз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ла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нзил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троф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офаринге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стру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confluens s. pseudomembranac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15080" y="1219320"/>
            <a:ext cx="392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lacun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prostom02"/>
          <p:cNvPicPr/>
          <p:nvPr/>
        </p:nvPicPr>
        <p:blipFill>
          <a:blip r:embed="rId1"/>
          <a:stretch/>
        </p:blipFill>
        <p:spPr>
          <a:xfrm>
            <a:off x="762120" y="1447920"/>
            <a:ext cx="3429000" cy="244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Angina_atticus"/>
          <p:cNvPicPr/>
          <p:nvPr/>
        </p:nvPicPr>
        <p:blipFill>
          <a:blip r:embed="rId2"/>
          <a:stretch/>
        </p:blipFill>
        <p:spPr>
          <a:xfrm>
            <a:off x="4724280" y="1447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ћ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п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ис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стал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техијални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н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р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пап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429000" y="14479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мите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је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инан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еал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иноз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ндула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фоид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пт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значајн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ц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с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нг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omegalo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stein-Barr 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6, 7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8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трахромозом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зом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Epstein-Bar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иг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о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м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у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уптур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лез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фагоцит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нтроли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поет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1760" y="75960"/>
            <a:ext cx="7848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г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kit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dgki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coplasm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тразву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сол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ип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жа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лаз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оп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уолизи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уш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уен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хем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Д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ируб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фе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ти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бридиза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ступ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aul-Bunell-ov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лут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ч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зитив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85-90%)-4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ма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-1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VCA IgM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ELIS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-4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2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тр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з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а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х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токс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лид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HERPES ZOST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пи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оз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гзанте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у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р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Varicella-zoster virus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vi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da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а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зо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љ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упрес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их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п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о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з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н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ј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љ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лар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цеден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руч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р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ч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з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бадај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л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аб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г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ге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гз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рма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пап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ст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рш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вертеб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кост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рал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thora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3" descr="Herpes_Zoster-ZZ"/>
          <p:cNvPicPr/>
          <p:nvPr/>
        </p:nvPicPr>
        <p:blipFill>
          <a:blip r:embed="rId1"/>
          <a:stretch/>
        </p:blipFill>
        <p:spPr>
          <a:xfrm>
            <a:off x="4724280" y="1066680"/>
            <a:ext cx="340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лаби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љашњ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х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ихо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о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File:Herpes zoster back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63244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2007-08_09-01"/>
          <p:cNvPicPr/>
          <p:nvPr/>
        </p:nvPicPr>
        <p:blipFill>
          <a:blip r:embed="rId1"/>
          <a:stretch/>
        </p:blipFill>
        <p:spPr>
          <a:xfrm>
            <a:off x="4649760" y="1447920"/>
            <a:ext cx="40086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6"/>
          <p:cNvPicPr/>
          <p:nvPr/>
        </p:nvPicPr>
        <p:blipFill>
          <a:blip r:embed="rId1"/>
          <a:stretch/>
        </p:blipFill>
        <p:spPr>
          <a:xfrm>
            <a:off x="1600200" y="1295280"/>
            <a:ext cx="64324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ниј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n. facialis, n. trigemin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ophtalm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фталм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гемин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б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с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art-sm458361"/>
          <p:cNvPicPr/>
          <p:nvPr/>
        </p:nvPicPr>
        <p:blipFill>
          <a:blip r:embed="rId5"/>
          <a:stretch/>
        </p:blipFill>
        <p:spPr>
          <a:xfrm>
            <a:off x="5867280" y="1752480"/>
            <a:ext cx="3117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pres zoster ot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ксил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ву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нз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ндибул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у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genicul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нзо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нг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n. faciali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х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дре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уп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љаш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ш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дн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n. faciali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Дисеминовани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зо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дефицијен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херпе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рал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нинго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в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LIS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VZV-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и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е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а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ам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гет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узрокова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ХВ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-6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м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уклеотид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вен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 75-9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ивис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крофаг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гакари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мбрион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ис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ч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чиј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4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е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превален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9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д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та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ш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е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и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о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спољ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Times New Roman"/>
              </a:rPr>
              <a:t>Exanthema subitum (Roseola infantum),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дне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о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ирек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ину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ул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ражљив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ку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др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ип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љ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ђ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њ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д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тремит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па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штеђ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рф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кулопап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ла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досле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биј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бораториј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цит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офил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ип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о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иг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н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ант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о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вул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ронич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бораториј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33:31Z</dcterms:created>
  <dc:creator>MF</dc:creator>
  <dc:description/>
  <dc:language>en-US</dc:language>
  <cp:lastModifiedBy>klinika</cp:lastModifiedBy>
  <dcterms:modified xsi:type="dcterms:W3CDTF">2023-10-30T17:56:03Z</dcterms:modified>
  <cp:revision>356</cp:revision>
  <dc:subject/>
  <dc:title>Slide 1</dc:title>
</cp:coreProperties>
</file>